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1F07-FBF8-4119-BB88-E3169675C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B1D4-660D-4868-B193-ED1713EA7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AB4F-06FC-4B3D-BD23-A0B2E9F22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lickr.com/photos/agathman/5469134899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AF4E-C9D3-43A6-9954-74277BFFF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un.ca/biology/scarr/Arginine_nutritional_mutan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A809-FA4E-4666-B938-E3F0D7075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E7DD-C619-476C-89E2-ADEB7E49C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171D-00FF-4799-94BA-77737DA8E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dnaftb.org/13/bio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an conclude that a disease is hereditary if there is a family history, i.e. a genetic link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7AC4-81F8-48CE-BE20-C6EF353F6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gfmer.ch/genetic_diseases_v2/gendis_detail_list.php?cat3=1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456E-FBA4-4E6C-91DD-6D6A1D06D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 book called Inborn Errors of Metaboism in 1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d alkaptonuria, cystinuria, pentosuria, alb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8B78-CCA5-4C60-8870-B08F153D7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iki.cstl.semo.edu/agathman/Proteins%20and%20genes.ashx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7064-C35A-4844-9E8A-4DD9B183E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5/nobel-laureates-george-beadle-and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6CB7-F6B8-422C-AD6D-0A31A6816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ublications.nigms.nih.gov/thenewgenetics/livinglab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7410-6FA0-422E-AEAB-A5771039C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nutrient medium contained inorganic salts, sugar, one of the B 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81EF-41D9-4844-B670-45B0A5FA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622-2BC6-43C6-8113-F242EF87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0E5-67A1-4E03-A242-07269318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836-1D62-4BA2-BE6B-EBB0C59E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D09-A448-400D-8CB7-7816C44C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A5C-26C5-4141-AAF1-22F1A3D3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54C-5886-46A9-A6D5-56D7CF37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36B-A8DA-45D0-84B5-5C466006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9F0-CFD6-4CBB-A295-A5072C30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958-5400-4427-AB6F-A3D880D3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607-25A6-498B-9E1F-52318E1E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600-B822-4C0A-A48A-D7D2AAC0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4FD-2348-4045-9624-9F1BBD2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70E-4ADE-4514-8E5C-B406F367A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naftb.org/16/anima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inine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5469134899_8a32c6785d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38813_Arginine_metabolism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Gene-One Enz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work resulted in the o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-one enzym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ccurately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cellent slideshow that shows the Beadle &amp; Tatum experi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6/anim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bald Garrod (1857-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metabolic defects in newb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d family history of certain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13bio"/>
          <p:cNvPicPr/>
          <p:nvPr/>
        </p:nvPicPr>
        <p:blipFill>
          <a:blip r:embed="rId1"/>
          <a:stretch/>
        </p:blipFill>
        <p:spPr>
          <a:xfrm>
            <a:off x="5222880" y="1981080"/>
            <a:ext cx="26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pton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urine to turn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kap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09"/>
          <p:cNvPicPr/>
          <p:nvPr/>
        </p:nvPicPr>
        <p:blipFill>
          <a:blip r:embed="rId1"/>
          <a:stretch/>
        </p:blipFill>
        <p:spPr>
          <a:xfrm>
            <a:off x="685800" y="2624040"/>
            <a:ext cx="38098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breaking down alkap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born error of metabolis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connection between DNA (genes) &amp;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arrod did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5469059067_04bb4c7886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 (19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genet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red bread mould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urospora cra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Nobel_Laureates_1958_Beadle_Tatum"/>
          <p:cNvPicPr/>
          <p:nvPr/>
        </p:nvPicPr>
        <p:blipFill>
          <a:blip r:embed="rId1"/>
          <a:stretch/>
        </p:blipFill>
        <p:spPr>
          <a:xfrm>
            <a:off x="4648320" y="2365200"/>
            <a:ext cx="3809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h3_mold"/>
          <p:cNvPicPr/>
          <p:nvPr/>
        </p:nvPicPr>
        <p:blipFill>
          <a:blip r:embed="rId1"/>
          <a:stretch/>
        </p:blipFill>
        <p:spPr>
          <a:xfrm>
            <a:off x="267336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ble to grow on minimal nutrient med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exposure to X-rays or UV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s were unable to grow on minimal nutr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mutant strains, addi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minimal nutrient medium resulted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pathway for synthesis of arginine was determined through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 tested with intermed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10:59Z</dcterms:created>
  <dc:creator>rubina khan</dc:creator>
  <dc:description/>
  <dc:language>en-US</dc:language>
  <cp:lastModifiedBy>rubina khan</cp:lastModifiedBy>
  <dcterms:modified xsi:type="dcterms:W3CDTF">2015-11-12T18:20:13Z</dcterms:modified>
  <cp:revision>120</cp:revision>
  <dc:subject/>
  <dc:title>Molecular Genetics</dc:title>
</cp:coreProperties>
</file>